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4.wmf" ContentType="image/x-wmf"/>
  <Override PartName="/ppt/media/image7.png" ContentType="image/png"/>
  <Override PartName="/ppt/media/image1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66" spc="-1" strike="noStrike">
                <a:solidFill>
                  <a:srgbClr val="000000"/>
                </a:solidFill>
                <a:latin typeface="Arial"/>
              </a:defRPr>
            </a:pPr>
            <a:r>
              <a:rPr b="1" sz="1666" spc="-1" strike="noStrike">
                <a:solidFill>
                  <a:srgbClr val="000000"/>
                </a:solidFill>
                <a:latin typeface="Arial"/>
              </a:rPr>
              <a:t>EESFM MARÇO MATUTINO</a:t>
            </a:r>
          </a:p>
        </c:rich>
      </c:tx>
      <c:layout>
        <c:manualLayout>
          <c:xMode val="edge"/>
          <c:yMode val="edge"/>
          <c:x val="0.369539131594151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10736157980252"/>
          <c:w val="0.959957335229545"/>
          <c:h val="0.86901637295338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0</c:v>
                </c:pt>
                <c:pt idx="2">
                  <c:v>16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1</c:v>
                </c:pt>
                <c:pt idx="7">
                  <c:v>5</c:v>
                </c:pt>
                <c:pt idx="8">
                  <c:v>3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1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4</c:v>
                </c:pt>
                <c:pt idx="1">
                  <c:v>4.4</c:v>
                </c:pt>
                <c:pt idx="2">
                  <c:v>10.4</c:v>
                </c:pt>
                <c:pt idx="3">
                  <c:v>11.6</c:v>
                </c:pt>
                <c:pt idx="4">
                  <c:v>6</c:v>
                </c:pt>
                <c:pt idx="5">
                  <c:v>6</c:v>
                </c:pt>
                <c:pt idx="6">
                  <c:v>3.2</c:v>
                </c:pt>
                <c:pt idx="7">
                  <c:v>4.4</c:v>
                </c:pt>
                <c:pt idx="8">
                  <c:v>1.6</c:v>
                </c:pt>
                <c:pt idx="9">
                  <c:v>2.2</c:v>
                </c:pt>
                <c:pt idx="10">
                  <c:v>1.8</c:v>
                </c:pt>
                <c:pt idx="11">
                  <c:v>1.6</c:v>
                </c:pt>
                <c:pt idx="12">
                  <c:v>0.8</c:v>
                </c:pt>
                <c:pt idx="13">
                  <c:v>0.8</c:v>
                </c:pt>
                <c:pt idx="14">
                  <c:v>0.8</c:v>
                </c:pt>
                <c:pt idx="15">
                  <c:v>1</c:v>
                </c:pt>
              </c:numCache>
            </c:numRef>
          </c:val>
        </c:ser>
        <c:gapWidth val="100"/>
        <c:overlap val="0"/>
        <c:axId val="11978482"/>
        <c:axId val="31062957"/>
      </c:barChart>
      <c:catAx>
        <c:axId val="1197848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62957"/>
        <c:crossesAt val="0"/>
        <c:auto val="1"/>
        <c:lblAlgn val="ctr"/>
        <c:lblOffset val="100"/>
        <c:noMultiLvlLbl val="0"/>
      </c:catAx>
      <c:valAx>
        <c:axId val="31062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7848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SFM ABRIL MATUTINO</a:t>
            </a:r>
          </a:p>
        </c:rich>
      </c:tx>
      <c:layout>
        <c:manualLayout>
          <c:xMode val="edge"/>
          <c:yMode val="edge"/>
          <c:x val="0.40098482832046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83745896549"/>
          <c:y val="0.209473815773028"/>
          <c:w val="0.95998580427646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2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4838709677419</c:v>
                </c:pt>
                <c:pt idx="1">
                  <c:v>4.68387096774194</c:v>
                </c:pt>
                <c:pt idx="2">
                  <c:v>11.0709677419355</c:v>
                </c:pt>
                <c:pt idx="3">
                  <c:v>12.3483870967742</c:v>
                </c:pt>
                <c:pt idx="4">
                  <c:v>6.38709677419355</c:v>
                </c:pt>
                <c:pt idx="5">
                  <c:v>6.38709677419355</c:v>
                </c:pt>
                <c:pt idx="6">
                  <c:v>3.40645161290323</c:v>
                </c:pt>
                <c:pt idx="7">
                  <c:v>4.68387096774194</c:v>
                </c:pt>
                <c:pt idx="8">
                  <c:v>1.70322580645161</c:v>
                </c:pt>
                <c:pt idx="9">
                  <c:v>2.34193548387097</c:v>
                </c:pt>
                <c:pt idx="10">
                  <c:v>1.91612903225806</c:v>
                </c:pt>
                <c:pt idx="11">
                  <c:v>1.70322580645161</c:v>
                </c:pt>
                <c:pt idx="12">
                  <c:v>0.851612903225806</c:v>
                </c:pt>
                <c:pt idx="13">
                  <c:v>0.851612903225806</c:v>
                </c:pt>
                <c:pt idx="14">
                  <c:v>0.851612903225806</c:v>
                </c:pt>
                <c:pt idx="15">
                  <c:v>1.06451612903226</c:v>
                </c:pt>
              </c:numCache>
            </c:numRef>
          </c:val>
        </c:ser>
        <c:gapWidth val="100"/>
        <c:overlap val="0"/>
        <c:axId val="13989352"/>
        <c:axId val="39681193"/>
      </c:barChart>
      <c:catAx>
        <c:axId val="1398935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81193"/>
        <c:crossesAt val="0"/>
        <c:auto val="1"/>
        <c:lblAlgn val="ctr"/>
        <c:lblOffset val="100"/>
        <c:noMultiLvlLbl val="0"/>
      </c:catAx>
      <c:valAx>
        <c:axId val="39681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935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SFM MAIO MATUTINO</a:t>
            </a:r>
          </a:p>
        </c:rich>
      </c:tx>
      <c:layout>
        <c:manualLayout>
          <c:xMode val="edge"/>
          <c:yMode val="edge"/>
          <c:x val="0.31223404255319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11347517731"/>
          <c:y val="0.209473815773028"/>
          <c:w val="0.959929078014184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6</c:v>
                </c:pt>
                <c:pt idx="2">
                  <c:v>1</c:v>
                </c:pt>
                <c:pt idx="3">
                  <c:v>3</c:v>
                </c:pt>
                <c:pt idx="4">
                  <c:v>2</c:v>
                </c:pt>
                <c:pt idx="5">
                  <c:v>2</c:v>
                </c:pt>
                <c:pt idx="6">
                  <c:v>6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2258064516129</c:v>
                </c:pt>
                <c:pt idx="1">
                  <c:v>2.6258064516129</c:v>
                </c:pt>
                <c:pt idx="2">
                  <c:v>6.20645161290323</c:v>
                </c:pt>
                <c:pt idx="3">
                  <c:v>6.92258064516129</c:v>
                </c:pt>
                <c:pt idx="4">
                  <c:v>3.58064516129032</c:v>
                </c:pt>
                <c:pt idx="5">
                  <c:v>3.58064516129032</c:v>
                </c:pt>
                <c:pt idx="6">
                  <c:v>1.90967741935484</c:v>
                </c:pt>
                <c:pt idx="7">
                  <c:v>2.6258064516129</c:v>
                </c:pt>
                <c:pt idx="8">
                  <c:v>0.95483870967742</c:v>
                </c:pt>
                <c:pt idx="9">
                  <c:v>1.31290322580645</c:v>
                </c:pt>
                <c:pt idx="10">
                  <c:v>1.0741935483871</c:v>
                </c:pt>
                <c:pt idx="11">
                  <c:v>0.95483870967742</c:v>
                </c:pt>
                <c:pt idx="12">
                  <c:v>0.47741935483871</c:v>
                </c:pt>
                <c:pt idx="13">
                  <c:v>0.47741935483871</c:v>
                </c:pt>
                <c:pt idx="14">
                  <c:v>0.47741935483871</c:v>
                </c:pt>
                <c:pt idx="15">
                  <c:v>0.596774193548387</c:v>
                </c:pt>
              </c:numCache>
            </c:numRef>
          </c:val>
        </c:ser>
        <c:gapWidth val="100"/>
        <c:overlap val="0"/>
        <c:axId val="36249954"/>
        <c:axId val="74277257"/>
      </c:barChart>
      <c:catAx>
        <c:axId val="3624995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77257"/>
        <c:crossesAt val="0"/>
        <c:auto val="1"/>
        <c:lblAlgn val="ctr"/>
        <c:lblOffset val="100"/>
        <c:noMultiLvlLbl val="0"/>
      </c:catAx>
      <c:valAx>
        <c:axId val="74277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4995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EESFM MARÇO VESPERTINO</a:t>
            </a:r>
          </a:p>
        </c:rich>
      </c:tx>
      <c:layout>
        <c:manualLayout>
          <c:xMode val="edge"/>
          <c:yMode val="edge"/>
          <c:x val="0.37238344962446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91111506155"/>
          <c:y val="0.209473815773028"/>
          <c:w val="0.95991289276032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4</c:v>
                </c:pt>
                <c:pt idx="2">
                  <c:v>15</c:v>
                </c:pt>
                <c:pt idx="3">
                  <c:v>9</c:v>
                </c:pt>
                <c:pt idx="4">
                  <c:v>6</c:v>
                </c:pt>
                <c:pt idx="5">
                  <c:v>9</c:v>
                </c:pt>
                <c:pt idx="6">
                  <c:v>2</c:v>
                </c:pt>
                <c:pt idx="7">
                  <c:v>7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</c:v>
                </c:pt>
                <c:pt idx="1">
                  <c:v>5</c:v>
                </c:pt>
                <c:pt idx="2">
                  <c:v>13.6</c:v>
                </c:pt>
                <c:pt idx="3">
                  <c:v>12.2</c:v>
                </c:pt>
                <c:pt idx="4">
                  <c:v>6.6</c:v>
                </c:pt>
                <c:pt idx="5">
                  <c:v>6.6</c:v>
                </c:pt>
                <c:pt idx="6">
                  <c:v>3.2</c:v>
                </c:pt>
                <c:pt idx="7">
                  <c:v>6.2</c:v>
                </c:pt>
                <c:pt idx="8">
                  <c:v>0.4</c:v>
                </c:pt>
                <c:pt idx="9">
                  <c:v>0.4</c:v>
                </c:pt>
                <c:pt idx="10">
                  <c:v>0.6</c:v>
                </c:pt>
                <c:pt idx="11">
                  <c:v>0.4</c:v>
                </c:pt>
                <c:pt idx="12">
                  <c:v>0.2</c:v>
                </c:pt>
                <c:pt idx="13">
                  <c:v>0.2</c:v>
                </c:pt>
                <c:pt idx="14">
                  <c:v>1.4</c:v>
                </c:pt>
                <c:pt idx="15">
                  <c:v>1</c:v>
                </c:pt>
              </c:numCache>
            </c:numRef>
          </c:val>
        </c:ser>
        <c:gapWidth val="100"/>
        <c:overlap val="0"/>
        <c:axId val="71723958"/>
        <c:axId val="48113027"/>
      </c:barChart>
      <c:catAx>
        <c:axId val="7172395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13027"/>
        <c:crossesAt val="0"/>
        <c:auto val="1"/>
        <c:lblAlgn val="ctr"/>
        <c:lblOffset val="100"/>
        <c:noMultiLvlLbl val="0"/>
      </c:catAx>
      <c:valAx>
        <c:axId val="48113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2395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EESFM ABRIL VESPERTINO</a:t>
            </a:r>
          </a:p>
        </c:rich>
      </c:tx>
      <c:layout>
        <c:manualLayout>
          <c:xMode val="edge"/>
          <c:yMode val="edge"/>
          <c:x val="0.3504733122972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73815773028"/>
          <c:w val="0.959957335229545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5</c:v>
                </c:pt>
                <c:pt idx="2">
                  <c:v>7</c:v>
                </c:pt>
                <c:pt idx="3">
                  <c:v>4</c:v>
                </c:pt>
                <c:pt idx="4">
                  <c:v>7</c:v>
                </c:pt>
                <c:pt idx="5">
                  <c:v>15</c:v>
                </c:pt>
                <c:pt idx="6">
                  <c:v>1</c:v>
                </c:pt>
                <c:pt idx="7">
                  <c:v>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1875</c:v>
                </c:pt>
                <c:pt idx="1">
                  <c:v>5.15625</c:v>
                </c:pt>
                <c:pt idx="2">
                  <c:v>14.025</c:v>
                </c:pt>
                <c:pt idx="3">
                  <c:v>12.58125</c:v>
                </c:pt>
                <c:pt idx="4">
                  <c:v>6.80625</c:v>
                </c:pt>
                <c:pt idx="5">
                  <c:v>6.80625</c:v>
                </c:pt>
                <c:pt idx="6">
                  <c:v>3.3</c:v>
                </c:pt>
                <c:pt idx="7">
                  <c:v>6.39375</c:v>
                </c:pt>
                <c:pt idx="8">
                  <c:v>0.4125</c:v>
                </c:pt>
                <c:pt idx="9">
                  <c:v>0.4125</c:v>
                </c:pt>
                <c:pt idx="10">
                  <c:v>0.61875</c:v>
                </c:pt>
                <c:pt idx="11">
                  <c:v>0.4125</c:v>
                </c:pt>
                <c:pt idx="12">
                  <c:v>0.20625</c:v>
                </c:pt>
                <c:pt idx="13">
                  <c:v>0.20625</c:v>
                </c:pt>
                <c:pt idx="14">
                  <c:v>1.44375</c:v>
                </c:pt>
                <c:pt idx="15">
                  <c:v>1.03125</c:v>
                </c:pt>
              </c:numCache>
            </c:numRef>
          </c:val>
        </c:ser>
        <c:gapWidth val="100"/>
        <c:overlap val="0"/>
        <c:axId val="98244589"/>
        <c:axId val="46620283"/>
      </c:barChart>
      <c:catAx>
        <c:axId val="9824458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20283"/>
        <c:crossesAt val="0"/>
        <c:auto val="1"/>
        <c:lblAlgn val="ctr"/>
        <c:lblOffset val="100"/>
        <c:noMultiLvlLbl val="0"/>
      </c:catAx>
      <c:valAx>
        <c:axId val="46620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4458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SFM MAIO VESPERTINO</a:t>
            </a:r>
          </a:p>
        </c:rich>
      </c:tx>
      <c:layout>
        <c:manualLayout>
          <c:xMode val="edge"/>
          <c:yMode val="edge"/>
          <c:x val="0.3504733122972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73815773028"/>
          <c:w val="0.95991289276032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4</c:v>
                </c:pt>
                <c:pt idx="3">
                  <c:v>3</c:v>
                </c:pt>
                <c:pt idx="4">
                  <c:v>0</c:v>
                </c:pt>
                <c:pt idx="5">
                  <c:v>9</c:v>
                </c:pt>
                <c:pt idx="6">
                  <c:v>2</c:v>
                </c:pt>
                <c:pt idx="7">
                  <c:v>5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8125</c:v>
                </c:pt>
                <c:pt idx="1">
                  <c:v>2.734375</c:v>
                </c:pt>
                <c:pt idx="2">
                  <c:v>7.4375</c:v>
                </c:pt>
                <c:pt idx="3">
                  <c:v>6.671875</c:v>
                </c:pt>
                <c:pt idx="4">
                  <c:v>3.609375</c:v>
                </c:pt>
                <c:pt idx="5">
                  <c:v>3.609375</c:v>
                </c:pt>
                <c:pt idx="6">
                  <c:v>1.75</c:v>
                </c:pt>
                <c:pt idx="7">
                  <c:v>3.390625</c:v>
                </c:pt>
                <c:pt idx="8">
                  <c:v>0.21875</c:v>
                </c:pt>
                <c:pt idx="9">
                  <c:v>0.21875</c:v>
                </c:pt>
                <c:pt idx="10">
                  <c:v>0.328125</c:v>
                </c:pt>
                <c:pt idx="11">
                  <c:v>0.21875</c:v>
                </c:pt>
                <c:pt idx="12">
                  <c:v>0.109375</c:v>
                </c:pt>
                <c:pt idx="13">
                  <c:v>0.109375</c:v>
                </c:pt>
                <c:pt idx="14">
                  <c:v>0.765625</c:v>
                </c:pt>
                <c:pt idx="15">
                  <c:v>0.546875</c:v>
                </c:pt>
              </c:numCache>
            </c:numRef>
          </c:val>
        </c:ser>
        <c:gapWidth val="100"/>
        <c:overlap val="0"/>
        <c:axId val="28504386"/>
        <c:axId val="7971724"/>
      </c:barChart>
      <c:catAx>
        <c:axId val="2850438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1724"/>
        <c:crossesAt val="0"/>
        <c:auto val="1"/>
        <c:lblAlgn val="ctr"/>
        <c:lblOffset val="100"/>
        <c:noMultiLvlLbl val="0"/>
      </c:catAx>
      <c:valAx>
        <c:axId val="7971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0438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66" spc="-1" strike="noStrike">
                <a:solidFill>
                  <a:srgbClr val="000000"/>
                </a:solidFill>
                <a:latin typeface="Arial"/>
              </a:defRPr>
            </a:pPr>
            <a:r>
              <a:rPr b="1" sz="1666" spc="-1" strike="noStrike">
                <a:solidFill>
                  <a:srgbClr val="000000"/>
                </a:solidFill>
                <a:latin typeface="Arial"/>
              </a:rPr>
              <a:t>EESFM MARÇO NOTURNO</a:t>
            </a:r>
          </a:p>
        </c:rich>
      </c:tx>
      <c:layout>
        <c:manualLayout>
          <c:xMode val="edge"/>
          <c:yMode val="edge"/>
          <c:x val="0.34976223278965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19110111236096"/>
          <c:w val="0.959957335229545"/>
          <c:h val="0.86051743532058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1</c:v>
                </c:pt>
                <c:pt idx="4">
                  <c:v>0</c:v>
                </c:pt>
                <c:pt idx="5">
                  <c:v>3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929203539823</c:v>
                </c:pt>
                <c:pt idx="1">
                  <c:v>1.5929203539823</c:v>
                </c:pt>
                <c:pt idx="2">
                  <c:v>5.41592920353982</c:v>
                </c:pt>
                <c:pt idx="3">
                  <c:v>5.09734513274336</c:v>
                </c:pt>
                <c:pt idx="4">
                  <c:v>3.50442477876106</c:v>
                </c:pt>
                <c:pt idx="5">
                  <c:v>3.50442477876106</c:v>
                </c:pt>
                <c:pt idx="6">
                  <c:v>3.50442477876106</c:v>
                </c:pt>
                <c:pt idx="7">
                  <c:v>0.955752212389381</c:v>
                </c:pt>
                <c:pt idx="8">
                  <c:v>2.54867256637168</c:v>
                </c:pt>
                <c:pt idx="9">
                  <c:v>3.1858407079646</c:v>
                </c:pt>
                <c:pt idx="10">
                  <c:v>2.54867256637168</c:v>
                </c:pt>
                <c:pt idx="11">
                  <c:v>1.27433628318584</c:v>
                </c:pt>
                <c:pt idx="12">
                  <c:v>0.63716814159292</c:v>
                </c:pt>
                <c:pt idx="13">
                  <c:v>0.6371681415929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6125417"/>
        <c:axId val="40613609"/>
      </c:barChart>
      <c:catAx>
        <c:axId val="461254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13609"/>
        <c:crossesAt val="0"/>
        <c:auto val="1"/>
        <c:lblAlgn val="ctr"/>
        <c:lblOffset val="100"/>
        <c:noMultiLvlLbl val="0"/>
      </c:catAx>
      <c:valAx>
        <c:axId val="40613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2541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7" spc="-1" strike="noStrike">
                <a:solidFill>
                  <a:srgbClr val="000000"/>
                </a:solidFill>
                <a:latin typeface="Arial"/>
              </a:defRPr>
            </a:pPr>
            <a:r>
              <a:rPr b="1" sz="1497" spc="-1" strike="noStrike">
                <a:solidFill>
                  <a:srgbClr val="000000"/>
                </a:solidFill>
                <a:latin typeface="Arial"/>
              </a:rPr>
              <a:t>EESFM ABRIL NOTURNO</a:t>
            </a:r>
          </a:p>
        </c:rich>
      </c:tx>
      <c:layout>
        <c:manualLayout>
          <c:xMode val="edge"/>
          <c:yMode val="edge"/>
          <c:x val="0.33762943869161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473815773028"/>
          <c:w val="0.960001777698769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3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6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3716814159292</c:v>
                </c:pt>
                <c:pt idx="1">
                  <c:v>1.3716814159292</c:v>
                </c:pt>
                <c:pt idx="2">
                  <c:v>4.66371681415929</c:v>
                </c:pt>
                <c:pt idx="3">
                  <c:v>4.38938053097345</c:v>
                </c:pt>
                <c:pt idx="4">
                  <c:v>3.01769911504425</c:v>
                </c:pt>
                <c:pt idx="5">
                  <c:v>3.01769911504425</c:v>
                </c:pt>
                <c:pt idx="6">
                  <c:v>3.01769911504425</c:v>
                </c:pt>
                <c:pt idx="7">
                  <c:v>0.823008849557522</c:v>
                </c:pt>
                <c:pt idx="8">
                  <c:v>2.19469026548673</c:v>
                </c:pt>
                <c:pt idx="9">
                  <c:v>2.74336283185841</c:v>
                </c:pt>
                <c:pt idx="10">
                  <c:v>2.19469026548673</c:v>
                </c:pt>
                <c:pt idx="11">
                  <c:v>1.09734513274336</c:v>
                </c:pt>
                <c:pt idx="12">
                  <c:v>0.548672566371681</c:v>
                </c:pt>
                <c:pt idx="13">
                  <c:v>0.54867256637168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9148567"/>
        <c:axId val="87217760"/>
      </c:barChart>
      <c:catAx>
        <c:axId val="7914856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17760"/>
        <c:crossesAt val="0"/>
        <c:auto val="1"/>
        <c:lblAlgn val="ctr"/>
        <c:lblOffset val="100"/>
        <c:noMultiLvlLbl val="0"/>
      </c:catAx>
      <c:valAx>
        <c:axId val="87217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856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EESFM MAIO NOTURNO</a:t>
            </a:r>
          </a:p>
        </c:rich>
      </c:tx>
      <c:layout>
        <c:manualLayout>
          <c:xMode val="edge"/>
          <c:yMode val="edge"/>
          <c:x val="0.35238433847384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473815773028"/>
          <c:w val="0.959957335229545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4</c:v>
                </c:pt>
                <c:pt idx="4">
                  <c:v>0</c:v>
                </c:pt>
                <c:pt idx="5">
                  <c:v>2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01769911504425</c:v>
                </c:pt>
                <c:pt idx="1">
                  <c:v>1.01769911504425</c:v>
                </c:pt>
                <c:pt idx="2">
                  <c:v>3.46017699115044</c:v>
                </c:pt>
                <c:pt idx="3">
                  <c:v>3.25663716814159</c:v>
                </c:pt>
                <c:pt idx="4">
                  <c:v>2.23893805309735</c:v>
                </c:pt>
                <c:pt idx="5">
                  <c:v>2.23893805309735</c:v>
                </c:pt>
                <c:pt idx="6">
                  <c:v>2.23893805309735</c:v>
                </c:pt>
                <c:pt idx="7">
                  <c:v>0.610619469026549</c:v>
                </c:pt>
                <c:pt idx="8">
                  <c:v>1.6283185840708</c:v>
                </c:pt>
                <c:pt idx="9">
                  <c:v>2.0353982300885</c:v>
                </c:pt>
                <c:pt idx="10">
                  <c:v>1.6283185840708</c:v>
                </c:pt>
                <c:pt idx="11">
                  <c:v>0.814159292035398</c:v>
                </c:pt>
                <c:pt idx="12">
                  <c:v>0.407079646017699</c:v>
                </c:pt>
                <c:pt idx="13">
                  <c:v>0.407079646017699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9757498"/>
        <c:axId val="14392392"/>
      </c:barChart>
      <c:catAx>
        <c:axId val="997574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92392"/>
        <c:crossesAt val="0"/>
        <c:auto val="1"/>
        <c:lblAlgn val="ctr"/>
        <c:lblOffset val="100"/>
        <c:noMultiLvlLbl val="0"/>
      </c:catAx>
      <c:valAx>
        <c:axId val="14392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5749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5B4C-F2D6-4F3D-BDDF-2E66C5449F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177-A87A-45A5-BAA6-A029930DBC1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A1C9-0EF8-44C7-A9FF-74B27929CFC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A2C1-7ED6-4275-B381-A7C46E01352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F34C-74EC-4957-9808-AC160120989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56C8-8362-4880-811B-725C1B82A05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33E2-A4BB-4D0D-AF6A-603C94E5E5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EAEF-0836-4971-A9EC-09C52AB90A4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7FF2-8CAD-43CB-813C-B044061D5A7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291A-EC08-4F35-8B9E-436E3E52F39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C2AD-B7AD-42B4-8F1A-1D83917F891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82CC-02EB-4E30-AA33-C3871E76ED5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0860-9BE7-4BF1-A882-5C83BAA0190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F24-64FB-4C0E-8565-9C0B14CA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CF5-4986-4794-B2B8-CF8605B4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801-3955-4EB3-BDDF-DA4D1F14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9CD-6A46-4C69-9009-D3AA5D22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2F29-2F4A-48E4-908C-9077AAA4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E573-9B08-42F7-9CB0-05DDFB1C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4141-FA4F-4C40-8A82-04ED0CAE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7CDE-ED1E-47B4-B855-12F2997F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A690-FFEE-4C23-9DDD-7B026B52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E7E7-3CB1-4283-AFCE-EDD1BCA2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2CFA-D0A7-48A5-A0A9-D6514D3D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EBA-953C-40A9-88E1-92162E6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3A30-EB98-4ECB-A58E-439AF720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C648-FEE3-4BC1-8343-7C4312F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08BA-DDFA-4138-B3E1-DE053AFC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3CFA-83A6-404B-84CB-9856BAC0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5B92-6E8D-4EEF-8013-D75EEFF8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EFE34-FC06-44F0-84CE-2398FBCA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ACAE7-9370-431C-933B-D7962B35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EBDF2-3EE3-448E-AA37-5E79701B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3413F-852E-44CC-9222-F6CE6FA1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5520B-6D8C-47A5-A449-8ACF55B4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53D-B073-4254-A3EF-5401FD5E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0C57F-FEFE-4B35-94A2-24EC86E8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28A8A-1B8C-4A21-B502-158483F1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BB3FD-0D3C-441E-8E0B-094B711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6B3A9-BDD1-404F-8AF5-22A9FD93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60861-C6EA-4193-9CA3-9570981D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60282-FF48-46BB-B72C-F9E30F60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E935F-2F67-4F89-B9F2-FEE4F54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B3B98-1B09-4D1D-9884-0D14327C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226D8-D9EF-4EA3-8CE0-22973E35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B7FA8-F319-415A-A14C-A0433A84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9E9-100C-4FB6-A269-1E74067D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6A65E-D3CC-41A7-8ABE-3681667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BB7F5-B063-49FD-A95A-8F5CFFCE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E5429-E8B3-4160-8455-430FBE9D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731C4-87C2-4BDF-B42D-D7E2AA2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9BD1C-906A-4E7E-A919-1E87277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55D3B-9AD5-4ABA-A7B2-B67F152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6BACC-229E-4846-B197-2BC45A20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9D945-FF2E-4F7B-98A2-A82A8182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CD78F-7D2E-47D5-8CB1-5B545DF9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E7C1F-60AA-40C3-88C3-0D7CB175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C3D-5AE6-4C78-9EC6-77E32669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F5047-8099-4DF7-AADD-037918F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BDDAA-820A-4353-B4DE-13D1213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1DA6F-A064-4E11-AE8F-90D0D1B1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9EEB2-FBF6-4BA5-91C8-4F31D3CE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851C0-4772-40BA-A60E-5DD132D5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B303D-F2E0-46DC-A8B0-87733CA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4249A-D72D-4EE3-A6A5-B1E4D636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5FD4D-8591-4B05-B4FF-C7A71C3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9D64A5-7CBD-4993-876D-A8BA2FA0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96EC0-0CAD-4C74-9091-D9872083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3AA-0A7F-48AE-906D-0412614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E8E7AA-80AD-449E-B608-CF5E2A62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EAFB2-1B0E-47FF-A0BC-1269EB7F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5C6A2-E7C1-4C03-9FD6-DEFEEDB9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A9E36-36A5-4A2C-9FBC-74ECD3F2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A947E-688F-4A09-9126-57395BB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423E-6D84-4ADF-85F4-C1F66B50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1013-858B-4AC1-9B81-4F2EFF69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23D8-7373-4FDB-BF58-6E62144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9DE13-0D8C-4D11-B9E7-198D671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33284-BE0B-4060-A162-E86C932B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5F6-A197-40D7-8731-B5268A8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28F2-B280-4D27-AD1B-5512A45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D8341-EE25-4354-88DD-70966535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8E336-2E49-4697-8B97-8E869057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81428-D34A-4065-A387-D3CF96D5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4A415-D63E-47BD-9FBC-8B4EA6B9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CDEC4-54EA-4832-943C-6AEFE690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4EE34-05C1-4AD0-8158-5A35C4C9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09937-6006-4AC9-A7D3-05801CAF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B349E-FA69-40C2-A8E8-24170178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07E19-4348-49D6-873A-85F28906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87F-7CF5-4341-ADDD-7D85692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97487-7FF4-488B-A37B-74F0BEEC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25F3A3-2EEF-4C68-9658-EB66675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0D560E-B4E5-4AB0-908E-A963CDB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933C3-251F-436C-AF9C-B3985E43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19F93-01CC-45E0-A8D6-D49BA4D7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DE6C2-856A-4876-AA15-19676B2D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4F8B5-F829-475B-8241-DBC4EE4A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0CFFF-9A2C-40DF-88D5-C9EE32A0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DCF1-EEE8-4B0E-A073-76D9D4B7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4D10-D039-4E60-98CA-D472B978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307-B2FD-45DF-B0FE-A2E66598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2F9DF-DFA0-4DD5-9850-446691E9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BEF30-842A-417B-A3A3-BD3E323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7675-CA8A-4C7F-8263-DE46A11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4555D-A2B0-47FA-AC1B-777E6FB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48FF-74E3-414D-A5BF-45CB04D7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29216-0F8D-4D2D-BCF6-CA969B59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EB089-3AA6-4771-A3E9-080AC0E8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79E0-EB81-44A5-B0EC-F5142C65077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5883-BEF4-4A08-8EF9-938924B0D51F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BEA-7025-4071-9363-4C1DD04DE442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195C-9E4E-477B-A5BE-2F589FB3D58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6A98-9E70-48DE-BBDC-F10BE0862639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A31-16D6-43F5-A39F-D01B5D6DC2B2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tângulo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93C5-317F-4016-9BD2-35ABE12516CD}" type="slidenum"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5B40-510E-4A68-A535-6952F22E439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E. E. SENADOR FILINTO MULL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w Cen MT"/>
              </a:rPr>
              <a:t>NTE – NOVA ANDRADI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Espaço Reservado para Rodapé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9640" y="1642680"/>
            <a:ext cx="36165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LINUX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788000" y="164304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oncluído em Nova Andradin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428480"/>
            <a:ext cx="91440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99"/>
                </a:solidFill>
                <a:latin typeface="Tw Cen MT"/>
              </a:rPr>
              <a:t>PELA ST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0920" y="1571400"/>
            <a:ext cx="361620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Elaboração e apresentação do Plano de Ação 2009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reenchimento do relatório do PNUD Brasil Ponto a Ponto pelos aluno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Acompanhamento das atividades desenvolvidas pelos professores regentes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859280" y="1643040"/>
            <a:ext cx="3618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9/03 a 16/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3/03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m andament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1643040"/>
            <a:ext cx="361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w Cen MT"/>
              </a:rPr>
              <a:t>Pesquisa com professores regentes sobre os cursos que poderão ser ofertados pelos professores da STE;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riação e alimentação página WIKI da esco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urso Básico de Informática (CBIV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643280" y="1643040"/>
            <a:ext cx="450072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7/04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parcialmente executad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5/05 a 29/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99680" y="1571400"/>
            <a:ext cx="36162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ção Projeto I Encontro PS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uxilio na elaboração de projetos individua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TV Escola análise e divulgação junto aos docente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003640" y="1571760"/>
            <a:ext cx="361656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04/05 a 29/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99"/>
                </a:solidFill>
                <a:latin typeface="Tw Cen MT"/>
              </a:rPr>
              <a:t>ESTATÍSTICA</a:t>
            </a: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47592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EMERS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>
              <a:spcBef>
                <a:spcPts val="9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215040" y="214200"/>
            <a:ext cx="2722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4"/>
          <p:cNvGraphicFramePr/>
          <p:nvPr/>
        </p:nvGraphicFramePr>
        <p:xfrm>
          <a:off x="0" y="126828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2" name="Object 5"/>
          <p:cNvGraphicFramePr/>
          <p:nvPr/>
        </p:nvGraphicFramePr>
        <p:xfrm>
          <a:off x="2556000" y="4581360"/>
          <a:ext cx="4174920" cy="158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4581360"/>
                    <a:ext cx="41749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0" y="1268280"/>
          <a:ext cx="9144000" cy="3243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Object 5"/>
          <p:cNvGraphicFramePr/>
          <p:nvPr/>
        </p:nvGraphicFramePr>
        <p:xfrm>
          <a:off x="2843280" y="4581360"/>
          <a:ext cx="3887640" cy="14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581360"/>
                    <a:ext cx="38876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0" y="1214280"/>
          <a:ext cx="9144000" cy="3241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2" name="Object 5"/>
          <p:cNvGraphicFramePr/>
          <p:nvPr/>
        </p:nvGraphicFramePr>
        <p:xfrm>
          <a:off x="2627280" y="4653000"/>
          <a:ext cx="4032360" cy="153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4653000"/>
                    <a:ext cx="4032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GRUPO COMO UN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Espaço Reservado para Rodapé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8"/>
          <p:cNvGrpSpPr/>
          <p:nvPr/>
        </p:nvGrpSpPr>
        <p:grpSpPr>
          <a:xfrm>
            <a:off x="1143000" y="1643040"/>
            <a:ext cx="6337080" cy="4651920"/>
            <a:chOff x="1143000" y="1643040"/>
            <a:chExt cx="6337080" cy="4651920"/>
          </a:xfrm>
        </p:grpSpPr>
        <p:grpSp>
          <p:nvGrpSpPr>
            <p:cNvPr id="363" name="Group 33"/>
            <p:cNvGrpSpPr/>
            <p:nvPr/>
          </p:nvGrpSpPr>
          <p:grpSpPr>
            <a:xfrm>
              <a:off x="2079360" y="5530680"/>
              <a:ext cx="5400720" cy="764280"/>
              <a:chOff x="2079360" y="5530680"/>
              <a:chExt cx="5400720" cy="764280"/>
            </a:xfrm>
          </p:grpSpPr>
          <p:sp>
            <p:nvSpPr>
              <p:cNvPr id="364" name="Text Box 14"/>
              <p:cNvSpPr/>
              <p:nvPr/>
            </p:nvSpPr>
            <p:spPr>
              <a:xfrm>
                <a:off x="2079360" y="553068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400" spc="-1" strike="noStrike">
                    <a:solidFill>
                      <a:srgbClr val="000000"/>
                    </a:solidFill>
                    <a:latin typeface="Arial"/>
                  </a:rPr>
                  <a:t>72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2871360" y="596412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9"/>
              <p:cNvSpPr/>
              <p:nvPr/>
            </p:nvSpPr>
            <p:spPr>
              <a:xfrm>
                <a:off x="3519360" y="553068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ebddc3"/>
                    </a:solidFill>
                    <a:latin typeface="Arial"/>
                  </a:rPr>
                  <a:t>5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1"/>
              <p:cNvSpPr/>
              <p:nvPr/>
            </p:nvSpPr>
            <p:spPr>
              <a:xfrm>
                <a:off x="4959000" y="596412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22"/>
              <p:cNvSpPr/>
              <p:nvPr/>
            </p:nvSpPr>
            <p:spPr>
              <a:xfrm>
                <a:off x="5535360" y="553068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00"/>
                    </a:solidFill>
                    <a:latin typeface="Arial"/>
                  </a:rPr>
                  <a:t>22.0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6"/>
            <p:cNvGrpSpPr/>
            <p:nvPr/>
          </p:nvGrpSpPr>
          <p:grpSpPr>
            <a:xfrm>
              <a:off x="1143000" y="1643040"/>
              <a:ext cx="6049800" cy="3671280"/>
              <a:chOff x="1143000" y="1643040"/>
              <a:chExt cx="6049800" cy="3671280"/>
            </a:xfrm>
          </p:grpSpPr>
          <p:sp>
            <p:nvSpPr>
              <p:cNvPr id="370" name="AutoShape 37"/>
              <p:cNvSpPr/>
              <p:nvPr/>
            </p:nvSpPr>
            <p:spPr>
              <a:xfrm flipV="1">
                <a:off x="2655720" y="164268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38"/>
              <p:cNvSpPr/>
              <p:nvPr/>
            </p:nvSpPr>
            <p:spPr>
              <a:xfrm>
                <a:off x="2725560" y="3818880"/>
                <a:ext cx="3711960" cy="1495440"/>
              </a:xfrm>
              <a:custGeom>
                <a:avLst/>
                <a:gdLst>
                  <a:gd name="textAreaLeft" fmla="*/ 649440 w 3711960"/>
                  <a:gd name="textAreaRight" fmla="*/ 2691360 w 371196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1143000" y="327492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Arial"/>
                  </a:rPr>
                  <a:t>COTEC      NTE        ST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40"/>
              <p:cNvSpPr/>
              <p:nvPr/>
            </p:nvSpPr>
            <p:spPr>
              <a:xfrm>
                <a:off x="2243160" y="388620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02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41"/>
              <p:cNvSpPr/>
              <p:nvPr/>
            </p:nvSpPr>
            <p:spPr>
              <a:xfrm>
                <a:off x="251928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410004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9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3"/>
              <p:cNvSpPr/>
              <p:nvPr/>
            </p:nvSpPr>
            <p:spPr>
              <a:xfrm>
                <a:off x="430632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44"/>
              <p:cNvSpPr/>
              <p:nvPr/>
            </p:nvSpPr>
            <p:spPr>
              <a:xfrm>
                <a:off x="602568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6093720" y="3615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6"/>
              <p:cNvSpPr/>
              <p:nvPr/>
            </p:nvSpPr>
            <p:spPr>
              <a:xfrm>
                <a:off x="6231600" y="36151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6919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ESPER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-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TA</a:t>
            </a:r>
            <a:r>
              <a:rPr b="1" lang="pt-BR" sz="4000" spc="-1" strike="noStrike">
                <a:solidFill>
                  <a:srgbClr val="94b6d2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22338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0" name="Object 5"/>
          <p:cNvGraphicFramePr/>
          <p:nvPr/>
        </p:nvGraphicFramePr>
        <p:xfrm>
          <a:off x="2771640" y="4653000"/>
          <a:ext cx="3959280" cy="15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4653000"/>
                    <a:ext cx="395928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5" name="Object 5"/>
          <p:cNvGraphicFramePr/>
          <p:nvPr/>
        </p:nvGraphicFramePr>
        <p:xfrm>
          <a:off x="2700360" y="4653000"/>
          <a:ext cx="3960720" cy="150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53000"/>
                    <a:ext cx="396072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4"/>
          <p:cNvGraphicFramePr/>
          <p:nvPr/>
        </p:nvGraphicFramePr>
        <p:xfrm>
          <a:off x="0" y="1285920"/>
          <a:ext cx="9144000" cy="3251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0" name="Object 5"/>
          <p:cNvGraphicFramePr/>
          <p:nvPr/>
        </p:nvGraphicFramePr>
        <p:xfrm>
          <a:off x="2843280" y="4724280"/>
          <a:ext cx="3887640" cy="14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4724280"/>
                    <a:ext cx="38876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214200"/>
            <a:ext cx="91440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NOTUR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 – ABRIL – MAI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GERS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6929280" y="42876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8" name="Object 5"/>
          <p:cNvGraphicFramePr/>
          <p:nvPr/>
        </p:nvGraphicFramePr>
        <p:xfrm>
          <a:off x="2771640" y="4724280"/>
          <a:ext cx="3889440" cy="14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4724280"/>
                    <a:ext cx="38894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3" name="Object 5"/>
          <p:cNvGraphicFramePr/>
          <p:nvPr/>
        </p:nvGraphicFramePr>
        <p:xfrm>
          <a:off x="2700360" y="4724280"/>
          <a:ext cx="3816360" cy="1452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724280"/>
                    <a:ext cx="38163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4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8" name="Object 5"/>
          <p:cNvGraphicFramePr/>
          <p:nvPr/>
        </p:nvGraphicFramePr>
        <p:xfrm>
          <a:off x="2627280" y="4653000"/>
          <a:ext cx="4032360" cy="153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4653000"/>
                    <a:ext cx="4032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39640" y="285480"/>
            <a:ext cx="822960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PONTOS PARA REFLETIR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2924280" cy="375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836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comunicação entre PNTE e PSTE deve ser constante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e-mails devem ser lidos por todo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MSN deve ficar ligado no período em que o Professor da STE estiver na sal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prazos deverão ser cumpridos, sendo alterado com justificativa prévi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8360" y="1500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lguns pontos que devem ser mudados para o bom andamento do trabalho na ST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s ações que foram desenvolvidas pelos professores multiplicadores (NTE – STE)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, analisar e refletir a respeito do uso da STE da escola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r cronograma de ações dos professores da STE no 2º semestre para formação in lo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responsabilizado o profissional que não cumprir com suas atribuições (professor do NTE, STE e professores regentes)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construído portfólio online das atividades desenvolvidas pelos alunos na STE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Todos os planos de aula dos professores deverão ser assinados pelo coordenador do turno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,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8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4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planejamento junto aos coordenadores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9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lanejamento junto à coordenação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quadro de planejamento mensal do professor da STE deverá se adequar ao horário de atividades do professor regente, acompanhado pelos coordenadore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plano de aula do professore regente deve prever no máximo </a:t>
            </a:r>
            <a:r>
              <a:rPr b="1" lang="pt-BR" sz="29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aulas, mais que isso é necessário projet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360" y="642600"/>
            <a:ext cx="82296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uso das mídias externa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coordenador pedagógic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diretor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720720" y="2492280"/>
            <a:ext cx="7770960" cy="228852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técnica e a pedagógica das unidades escolares, em especial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ão as principais parceiras na garantia da efetiva utilização das S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2320920" y="706320"/>
            <a:ext cx="5340240" cy="7462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 – Sala de Tecnolo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professor2"/>
          <p:cNvPicPr/>
          <p:nvPr/>
        </p:nvPicPr>
        <p:blipFill>
          <a:blip r:embed="rId1"/>
          <a:stretch/>
        </p:blipFill>
        <p:spPr>
          <a:xfrm>
            <a:off x="247680" y="347760"/>
            <a:ext cx="20239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"/>
          <p:cNvSpPr/>
          <p:nvPr/>
        </p:nvSpPr>
        <p:spPr>
          <a:xfrm>
            <a:off x="1200240" y="1108080"/>
            <a:ext cx="362592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584280" y="2752560"/>
            <a:ext cx="7889760" cy="302004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fessor de tecnologias deverá ficar atento quanto ao planejamento do professor regente que deverá ser entregue co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antecedência e com a ciência da 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sejam disponibilizados os recursos necessários na STE e para que possam verificar as atividades a serem executadas pelos alunos e disponibilizá-las de acordo com o horário de aulas planejad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4" descr="planejamento_"/>
          <p:cNvPicPr/>
          <p:nvPr/>
        </p:nvPicPr>
        <p:blipFill>
          <a:blip r:embed="rId1"/>
          <a:stretch/>
        </p:blipFill>
        <p:spPr>
          <a:xfrm>
            <a:off x="4892760" y="841320"/>
            <a:ext cx="2254320" cy="1501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87360" y="2084400"/>
            <a:ext cx="8327880" cy="342036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diretores e coordenadores pedagóg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m acompanhar as aulas desenvolvidas nas STEs, observando o cumprimento das regras de utilização das mesmas para garantir o seu uso pedagógico e consciente, com vistas ao desenvolvimento do processo de ensino e aprendizagem de seus alunos, e assegurar a sua utilização, para que a mesma não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que ocio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590400" y="369720"/>
            <a:ext cx="8128080" cy="14734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dução pedagógica para a intensifica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 uso dos  recursos tecnológicos existen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s unidades escola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506520" y="214200"/>
            <a:ext cx="7408800" cy="79236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Direção e equi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écnica pedagógica -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95280" y="1197000"/>
            <a:ext cx="8377200" cy="46645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ferecer, à Sala de Tecnologias Educacionais, condições de funcionamento, disponibilizando o material de consumo necessário ao desenvolvimento das atividad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e avaliar as atividades desenvolvida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egurar que os professores regentes cumpram, semanalmente, o planejamento das atividade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o cumprimento da carga horária do professor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entivar o uso da Sala de Tecnologias Educacionais pelos professores regent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826920" y="476280"/>
            <a:ext cx="698976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 direção equipe técnic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dagógica -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1042920" y="1413000"/>
            <a:ext cx="6624720" cy="442080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o processo de seleção do professor de tecnologias, no âmbito da unidade escolar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a conservação e manutenção dos equipamentos, mobiliário e materiais d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ormar à Secretaria de Estado de Educação quaisquer irregularidades da Sala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valiar o desempenho do professor de tecnolog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775f55"/>
                </a:solidFill>
                <a:latin typeface="Tw Cen MT"/>
              </a:rPr>
              <a:t>OBJETIV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5"/>
          <p:cNvGrpSpPr/>
          <p:nvPr/>
        </p:nvGrpSpPr>
        <p:grpSpPr>
          <a:xfrm>
            <a:off x="1258920" y="1413000"/>
            <a:ext cx="6626160" cy="4464000"/>
            <a:chOff x="1258920" y="1413000"/>
            <a:chExt cx="6626160" cy="4464000"/>
          </a:xfrm>
        </p:grpSpPr>
        <p:pic>
          <p:nvPicPr>
            <p:cNvPr id="503" name="Picture 7" descr="share"/>
            <p:cNvPicPr/>
            <p:nvPr/>
          </p:nvPicPr>
          <p:blipFill>
            <a:blip r:embed="rId1"/>
            <a:stretch/>
          </p:blipFill>
          <p:spPr>
            <a:xfrm>
              <a:off x="1258920" y="1413000"/>
              <a:ext cx="66261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Text Box 8"/>
            <p:cNvSpPr/>
            <p:nvPr/>
          </p:nvSpPr>
          <p:spPr>
            <a:xfrm>
              <a:off x="2571480" y="3769920"/>
              <a:ext cx="91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9"/>
            <p:cNvSpPr/>
            <p:nvPr/>
          </p:nvSpPr>
          <p:spPr>
            <a:xfrm>
              <a:off x="4342320" y="4634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>
              <a:off x="6297480" y="3312000"/>
              <a:ext cx="91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2"/>
            <p:cNvSpPr/>
            <p:nvPr/>
          </p:nvSpPr>
          <p:spPr>
            <a:xfrm>
              <a:off x="3426840" y="1989720"/>
              <a:ext cx="182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FESS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3304080" y="3138480"/>
              <a:ext cx="305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ffff"/>
                  </a:solidFill>
                  <a:latin typeface="Arial"/>
                </a:rPr>
                <a:t>ALUNOS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5808600" y="4460760"/>
              <a:ext cx="73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EM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ESTRUTURA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15717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1. Apresentar as ações previstas, executadas e a executar pelos professores do NTE e STE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2. Apresentar a realidade de uso da STE nos meses de março – abril – mai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3. Identificar os professores que usaram as tecnologias efetivamente no 1º semestre e os que não utilizaram e qual turno apresentou menos us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4. Apresentar e discutir cronograma de ações NTE/STE para o 2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42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AÇÕES PREVISTA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EXECUTADAS E A EXECUTAR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12500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PELO NTE - ST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1º SEMESTR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640" y="1642680"/>
            <a:ext cx="361656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Visita às escolas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Orientação aos PS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859280" y="1643040"/>
            <a:ext cx="3618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dezem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9640" y="1571400"/>
            <a:ext cx="38800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companhamento das atividades desenvolvidas pelos PSTE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informática básica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 Brasil Ponto a Ponto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788000" y="1571760"/>
            <a:ext cx="361764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a dezemb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 – 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000" y="1571760"/>
            <a:ext cx="36162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s para I Encontro PSTE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788000" y="157176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bril – Outub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 em andamento em Nova Andradin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io - Julh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MicroCarla</cp:lastModifiedBy>
  <dcterms:modified xsi:type="dcterms:W3CDTF">2009-07-30T13:03:22Z</dcterms:modified>
  <cp:revision>317</cp:revision>
  <dc:subject/>
  <dc:title>TECNOLOGIAS NA ESCOLA</dc:title>
</cp:coreProperties>
</file>